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CB6-AA39-42FE-B441-83F7BC85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A9C-3A9F-4F48-8891-1B6E8F5B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C5D-3C1C-4757-97CF-619A6BB6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F47-C900-439A-A12D-1292CCF6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06E-54EE-4D10-BDD8-519ECC06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B10-0F8A-48EF-8633-C887BBA5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18F-2B3A-47DA-8DDE-B9780441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B47-401C-4ECE-B611-EDF76807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BE5-8A1D-4FD4-80A0-A38E5FD8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C33-DF29-4C95-AD77-94CEA00B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0A3-E410-4AF2-9933-E6A86AE1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354-A056-437B-AC71-B3471084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6425-9075-4608-B9A3-7010237B9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f4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304920"/>
            <a:ext cx="7181640" cy="620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5805360"/>
            <a:ext cx="590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1557360"/>
            <a:ext cx="1295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1413000"/>
            <a:ext cx="17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 Trad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44600" y="620640"/>
            <a:ext cx="5981760" cy="623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71640" y="6021360"/>
            <a:ext cx="5184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981000"/>
            <a:ext cx="2303280" cy="5032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5240" y="9748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s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912000" cy="6007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08720" y="1413000"/>
            <a:ext cx="1800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1773360"/>
            <a:ext cx="1224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5734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L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743880" cy="6222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96000" y="1700280"/>
            <a:ext cx="1655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628640"/>
            <a:ext cx="1224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5877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L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9:35:28Z</dcterms:created>
  <dc:creator>user</dc:creator>
  <dc:description/>
  <dc:language>en-US</dc:language>
  <cp:lastModifiedBy>user</cp:lastModifiedBy>
  <dcterms:modified xsi:type="dcterms:W3CDTF">2011-10-05T09:37:02Z</dcterms:modified>
  <cp:revision>2</cp:revision>
  <dc:subject/>
  <dc:title>Economic Integration</dc:title>
</cp:coreProperties>
</file>